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2BA7-AC39-499D-B1EA-BEE3114FF9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EF92-9885-4A6B-B4DE-305012C90C9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209F-BF07-4923-90B8-2037F69E038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8639-2044-47F1-A41E-125AE107300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7391-BB67-469E-B51A-CF29A931D0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C03D-BC98-4D29-A8B9-7E71D316D7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C36D-6EFA-485E-8FF7-837C4A916D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E8D3-D5DC-4BE5-99BE-BC5C3910C3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FD83-BB94-4A90-AE80-4766D0A661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DD0E-AFE0-4324-A621-4E9E8850766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78E5-4104-4EC4-9514-704B129858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6785-9EBF-4DDA-AA91-FA44B0FD39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53F5-D47F-4A88-8ACD-FBB76C9560D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31C4-CE3B-48CA-BCEE-14C409EB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8DC-B6A5-4940-A887-25B1C1F1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96D1-7168-45B6-BBE6-418D6031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F84D-E3F5-4216-B26C-FA8B75C5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1707-E54B-48AE-B36F-491EE1C0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ACAE-32AE-4BCD-89A4-BF9F2BAA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BC40-0DEE-421D-AB13-2BAFB978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843D-1340-4CA0-B142-2C010A88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2F77-ADCC-4DF5-8B8A-89D8EB46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971-4D59-4742-8E3A-AB81A326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323D-ACB7-4C45-8B21-F90679BB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69F-465B-4A8A-BE54-F34BABF4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E1D3-D34B-4A70-9CE1-60B02CFA6D5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nforcement of Interim Measures and Interim Awards in New Zealand and Austral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00500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ut of step or a step ahea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6 August 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Nicole Smi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(nsmitharb@yahoo.co.nz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hould the NZ Courts enforce the Ord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im Order not an Interim A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eliminary Order not an Interim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ibunal suspends th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ZORC applies to Tribunal to suspend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ZORC argues it was not allowed to appoint an arbitr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C has not paid secur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hould the NZ Courts enforce the Ord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im Order not an Interim A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eliminary Order not an Interim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ibunal suspends th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ZORC applies to Tribunal to suspend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ZORC argues it was not allowed to appoint an arbitr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C has not paid secur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ew evidence – no obligation to do major repa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Enforcement of Interim Measures and Interim Awards in New Zealand and Austral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400500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ut of step or a step ahea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6 August 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Nicole Smi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(nsmitharb@yahoo.co.nz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 La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UNCITRAL Model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 1985 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006 Revised 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Z 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der the 1996 Act (unamend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der the 1996 Act (as amended in 200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Australian 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der the IAA (unamend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der the IAA (as amended in 20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9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Giant Oil Company v NZ Oil Rig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Placeholder 7" descr="oil_rig and boat.jpg"/>
          <p:cNvPicPr/>
          <p:nvPr/>
        </p:nvPicPr>
        <p:blipFill>
          <a:blip r:embed="rId1"/>
          <a:srcRect l="5065" t="0" r="5065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440" y="6093000"/>
            <a:ext cx="5486400" cy="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2400" bIns="324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Giant Oil Company v NZ Oil Rig Compa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OC retains NZORC to construct and maintain oil rig and well in the Gulf of Mexic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OC or its sub-contractors to operate the ri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tract governed by NZ la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d hoc arbitration, seat in Flori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plosion on the rig, massive fire, rig sinks, well gushing oil into Gulf of Mex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OC claims NZORC must  help stop the leak – with NZORC’s underwater rob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OC starts ad hoc arbitration proceedings against NZOR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OC applies for an interim order requiring NZORC to bring robot, to plug the lea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ZORC argues contract only requires routine maintenance work, not large scale repairs and robot not available as it is currently committed to a project in NZ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Z ORC argues that moving robot to Gulf of Mexico will cause it to breach NZ contract, resulting in considerable damages and a loss of reput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tribunal grants the or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OC applies to enforce the order before the NZ cou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hould the NZ Courts enforce the Ord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im Order not an Interim A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hould the NZ Courts enforce the Ord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im Order not an Interim A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eliminary Order not an Interim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hould the NZ Courts enforce the Ord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im Order not an Interim A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eliminary Order not an Interim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ibunal suspends th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hould the NZ Courts enforce the Ord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im Order not an Interim A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eliminary Order not an Interim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ibunal suspends th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ZORC applies to Tribunal to suspend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hould the NZ Courts enforce the Ord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im Order not an Interim A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eliminary Order not an Interim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ibunal suspends th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ZORC applies to Tribunal to suspend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ZORC argues it was not allowed to appoint an arbitr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05:38:16Z</dcterms:created>
  <dc:creator>Windows User</dc:creator>
  <dc:description/>
  <dc:language>en-US</dc:language>
  <cp:lastModifiedBy>Windows User</cp:lastModifiedBy>
  <dcterms:modified xsi:type="dcterms:W3CDTF">2010-07-28T22:05:39Z</dcterms:modified>
  <cp:revision>37</cp:revision>
  <dc:subject/>
  <dc:title>Enforcement of Interim Measures and Interim Awards in New Zealand and Australia</dc:title>
</cp:coreProperties>
</file>